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DE7-0FAB-428F-B463-12CC46CD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412-FBB7-4E7A-A153-12240272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BF6-14E1-407D-81BC-BE20598C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DAF-66C9-41CA-BB62-05519A2A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D8E8-BBEC-415E-8288-1AAA878C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3B02-1EAF-41D0-9B3C-ED93DCC2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797B-4F6D-49FE-A4E8-C6C95C1F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4EB6-752B-4DDE-8E0C-FC751952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F453-8A8D-4791-8F38-BDB9FC73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E2C2-A6FF-480D-A93B-32F88576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79D7-B376-4787-A849-1736948B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229-A2DE-4024-BCF9-88F17B88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5D4C-D85E-4C1F-9CAE-18992347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B0DC-E9FD-45F7-880E-D7381D31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E4A9-32D6-47D3-82C0-03D9E446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E389-B221-4BF3-9C82-85CFDFAA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695E-FE1D-48BD-939A-D579BAF1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2B6-1BB8-4A50-9944-FF0735BD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F1B-7ABF-49B2-BBF4-54B794AF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BA3-0C9D-4BE4-8974-095D93B3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AC0-1AE1-4A2E-BEDB-833163C6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3FB-84FE-4794-8BAE-31A61CB0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46B-FD0B-4D4D-A2CE-FD71C922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81D-05E8-4313-97F4-FB12CE68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15A9-FD9E-4F62-AD98-DEDB79B826C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A884-0437-46CF-818A-E49119322A7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nternet%20Explorer%20墙纸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304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33"/>
                </a:solidFill>
                <a:latin typeface="Times New Roman"/>
                <a:ea typeface="华文行楷"/>
              </a:rPr>
              <a:t>定语从句</a:t>
            </a:r>
            <a:r>
              <a:rPr b="0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专题讲座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5943600"/>
            <a:ext cx="67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XZ Middle School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04920"/>
            <a:ext cx="91440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She has two brothers,who are both docto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Last Saturday they reached Shanghai,where a meeting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o be h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在非限制性定语从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可以在整个主句作为其先行词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指代上面或下面说的一件事，其区别如下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从意义上来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(=and this/that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可以译为“这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那”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(=in accordance with what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译为“正如、象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3848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e is a teacher,which(=as)is clear from his manner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e is a teacher,as(=which)can be seen from his manner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 student forgot to bring his dictionary,as is often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 case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（此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不能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代。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925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2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b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,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在非限制性定语从句中的位置和作用来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的从句可置于主句之前，亦可置于主句之后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般置于主句之后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981080"/>
            <a:ext cx="91440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poem is written by Scott,as almost everybody knows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r:This poem,which almost everybody knows,is written by Scot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.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ceans cover more than 70 percent of the earth,as we have see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r:As is well-known to us all ,oceans cover more  than 70 percent of the earth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但不可译为：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 is well-know to us all,oceans cover more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n 70 percent of the eart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用适当的关系代词或关系副词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Yesterday I met doctor Wang _____told me the good news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is son's passing the examin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The two pupils______ you taught three yeas ago have be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eachers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He began to work in Beijing in the year______ New China 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founded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I don't know the reason______ she did n't agree to our pla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5.This is a soldier________ died in the war of Res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228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Who,th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o / that /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25066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429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886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Who/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6.He told everything    ________he had seen in the traffic accident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7.This was the best model of the TV set_________ the fa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produced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last year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8.They have visited the Museum of Chinese Histor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___________Premier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z h o u ‘ s life and deeds are being show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9.Alice,_______dress is all red, looks very pretty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0.The first thing ________I am going to do this evening is to write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report about the experi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609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057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3352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313000"/>
            <a:ext cx="9524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456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          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学习定语从句的关键是如何选择关联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。关联词在句中作状语就应使用关系副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.(where, when ,wh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否则使用关系代词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(who ,whom, whose,which, tha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二、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由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who,whom,whose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wh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主语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宾语，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s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用作定语，同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s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还可以指物，相当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of which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.g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doctor who sav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e baby's lif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e is the student whom the teacher praised at the meeting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456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           在复句中修饰名词或代词的从句叫做定语从句。需要学习和掌握的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定语从句有以下三种：由关系代词或关系副词引导的定语从句。由介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+whic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的定语从句。非限制性定语从句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I know the girl whose mother died a year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ave you seen the notebook whose cover is bla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三、由</a:t>
            </a: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which</a:t>
            </a: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which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主语或谓语动词的宾 语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.g.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store which opens all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pen which my brother bought for 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Is this the House in which Lu X un once lived?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or Is this the house which Lu X un once lived i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gazine which you are looking f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Notes: which,who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介词的宾语时，介词一般可置                                                                                                                                                                                                                                                    关系代词之前或放在从句原来的位置。但在含有介词的动词固定短语中介词只能放在原来的位置上，而不能放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之前，如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则不能改为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gazine for which you are look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e lives in a room whose window opens to the sou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294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四由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that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可以指人或物，代替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o,whom,which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在定语从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主语、宾语，但不能放在介词后作介词宾语：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67652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photo(that/which)I took in Beijing last ye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n(that/who)lives next do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his the professor that you talked about yesterday?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(abou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不能放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前面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68580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但下列情况只能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序数词或最高级形容词修饰先行词时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one of the best novels that I have ever 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e first English song that I learned was ABC so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All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much,everything,nothing,something,anything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先行词时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at.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但先行词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verybody,everyon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时应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,on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指人时也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verything that we saw at the exhibition greatly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nterested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here anything that belongs to you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ll that we need is more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Nothing that the parents do does n't influence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ir childr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先行词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n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no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nl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ver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等修饰时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 is the only way that we can find at pres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twelfth letter that she has received from hi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very museum that we visited for the first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可以用来引导限制性定语从句，当它在从句中作介宾时，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介词应后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438280"/>
            <a:ext cx="91440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good student that the teachers talked about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just no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5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先行词既指人又指物的并列名词时，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.</a:t>
            </a: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5411880"/>
            <a:ext cx="457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My mother and her old friends talked of the things  and persons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 they remembered in the schoo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非限制性定语从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限制性定语从句对先行词起限制作用，而非限制性定语从句是对概 念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清楚的先行词加以追加阐述或补充说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76720"/>
            <a:ext cx="997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非限制性定语从句一般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/who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而不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a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，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作宾语的关系代词不能省略，从句与主句用逗号分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9144000" cy="22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Yesterday I saw your brother,who told me the good news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f your mother's recovery from her illne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 went to see their new house,which I liked very mu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8:21:01Z</dcterms:created>
  <dc:creator>swh</dc:creator>
  <dc:description/>
  <dc:language>en-US</dc:language>
  <cp:lastModifiedBy>we</cp:lastModifiedBy>
  <dcterms:modified xsi:type="dcterms:W3CDTF">2002-06-22T23:15:22Z</dcterms:modified>
  <cp:revision>11</cp:revision>
  <dc:subject/>
  <dc:title>PowerPoint 演示文稿</dc:title>
</cp:coreProperties>
</file>